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D24-7C89-4893-93E4-1E3FA951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84E-F11F-4E7F-B1F1-949A0005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C47-309F-40D2-B0F6-D0930299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6C0-3EA8-489C-AEE6-09DEA397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CCBA-CA7A-47D9-B9D1-BB8B1B84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53CF-6E74-4E51-BDF3-4A563AF0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E601-8D51-46A2-BA77-F81A4F4B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57FB-11C9-4D7F-92B2-394E2580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6AD3-BC28-4C32-86E2-65894216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19EF-58F3-49DD-AFB0-5FD03229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88DD-B35E-4F13-B2F4-34028CA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5F4-42DE-4FD0-BC4A-77831AD4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EC6B-96B2-48A8-93C7-1CE58D21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03FC-4BF8-49C1-A58E-4ED34741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DBB0-2CD5-4DB8-8090-3FA7C0EC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5123-2289-4C69-A412-23B25C2C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BEF2-AB6E-4660-997A-EAC4DF86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C58-0B23-44B9-86CB-3FAB6B9D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6E1-F5A5-4438-8C7B-D4EA1D8B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232-71B4-4270-916B-C0A44F0B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0DD-BE52-4A8F-9115-14D7A9B4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02D-D61C-474F-8129-DD5B1AEF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C5B-D073-4822-8FE0-D06E2696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928-8E5B-4551-BA16-B660F80E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A3C5-1E5F-460A-A263-8CF9011A6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4DE6-5164-4204-A322-85C1A48B7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olympics.org.uk/beijing2008/images/sports/Badminton.jpg&amp;imgrefurl=http://www.olympics.org.uk/beijing2008/SportAbout.aspx%3Fgt%3Ds%26sp%3DBD&amp;usg=__lnxQPzKx78UaCk5LZmBCnTRKlvY=&amp;h=400&amp;w=300&amp;sz=47&amp;hl=en&amp;start=6&amp;tbnid=ueOwDdJIsJBqNM:&amp;tbnh=124&amp;tbnw=93&amp;prev=/images%3Fq%3Dbadminton%26gbv%3D2%26hl%3Den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janeheller.mlblogs.com/badminton_hitting.jpg&amp;imgrefurl=http://janeheller.mlblogs.com/archives/2009/02/&amp;usg=__L5xJO5_uAoqsdBCh0kFdxZS4Z48=&amp;h=300&amp;w=416&amp;sz=30&amp;hl=en&amp;start=7&amp;tbnid=BRGeBk39umhtgM:&amp;tbnh=90&amp;tbnw=125&amp;prev=/images%3Fq%3Dbadminton%26gbv%3D2%26hl%3Den%26sa%3D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Skills and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esson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iss Doog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29000"/>
            <a:ext cx="2987640" cy="3429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3716280"/>
            <a:ext cx="3203640" cy="3141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2484360" y="0"/>
            <a:ext cx="4608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Learning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y the end of the lesson you should understa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at skills can be classified into different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information processing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importance of the Model Perfo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Classification of Ski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airs T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ork sheet:  Select a Skill, and Identify which sentence defines this skill and then give an exa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Classification Of Ski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/ Closed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ple/ Complex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rete/ Serial or Continu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Information Processing 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pu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this is information you receive which tells you a skill needs to be per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cision making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this is when you decide how best to perform this sk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this is you actually performing the sk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Feedbac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this is you getting feedback on the outcome by comparing with the desired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Model Perform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is 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odel Performer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are the benefits of using 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odel Performer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7:52:51Z</dcterms:created>
  <dc:creator>DooganS</dc:creator>
  <dc:description/>
  <dc:language>en-US</dc:language>
  <cp:lastModifiedBy>DooganS</cp:lastModifiedBy>
  <dcterms:modified xsi:type="dcterms:W3CDTF">2009-10-27T08:18:50Z</dcterms:modified>
  <cp:revision>2</cp:revision>
  <dc:subject/>
  <dc:title>Skills and Techniques</dc:title>
</cp:coreProperties>
</file>